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1328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524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12920" y="1027080"/>
            <a:ext cx="49258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70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360" y="443808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88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576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036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576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360000"/>
            <a:ext cx="86202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288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0360" y="443808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288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5288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5760" y="143964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036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5288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5760" y="4438080"/>
            <a:ext cx="265932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920" y="360000"/>
            <a:ext cx="862020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880" y="443808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880" y="1439640"/>
            <a:ext cx="403056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360" y="4438080"/>
            <a:ext cx="8259840" cy="27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5400360"/>
            <a:ext cx="2139840" cy="30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2920" indent="-30816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28260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1240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19692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39840" indent="-198360">
              <a:lnSpc>
                <a:spcPct val="75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39840" indent="-1983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39840" indent="-198360">
              <a:lnSpc>
                <a:spcPct val="7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879640" y="2066760"/>
            <a:ext cx="482760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47880" y="6113520"/>
            <a:ext cx="1073160" cy="1073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808360" y="4218120"/>
            <a:ext cx="1260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79640" y="3060720"/>
            <a:ext cx="27003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19280" cy="755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9280"/>
            <a:ext cx="9001080" cy="900360"/>
          </a:xfrm>
          <a:prstGeom prst="roundRect">
            <a:avLst>
              <a:gd name="adj" fmla="val 176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5600"/>
            <a:ext cx="9001080" cy="6224760"/>
          </a:xfrm>
          <a:prstGeom prst="roundRect">
            <a:avLst>
              <a:gd name="adj" fmla="val 23"/>
            </a:avLst>
          </a:pr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1132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70820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2572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2572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25720" indent="-196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360000" y="6840360"/>
            <a:ext cx="539640" cy="540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8B2B83-AF6F-44D8-B7B5-BE4BDB5385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17440"/>
            <a:ext cx="8999640" cy="1800"/>
          </a:xfrm>
          <a:prstGeom prst="line">
            <a:avLst/>
          </a:prstGeom>
          <a:ln w="90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000080"/>
            </a:gs>
            <a:gs pos="100000">
              <a:srgbClr val="800000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480" y="1523880"/>
            <a:ext cx="6553440" cy="13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research approach to developing teacher subject knowledge: the case of dissolv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5400360"/>
            <a:ext cx="2139840" cy="307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42900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Oversby &amp; Anna Hed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iversity of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.p.oversby@reading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172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RA: Istanbul, Turkey, Septembe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jor features of the responses for the formation of iodine vapour strand N =2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 fontScale="86000"/>
          </a:bodyPr>
          <a:p>
            <a:pPr lvl="1" marL="6235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Explanation leve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Macroscopic only (8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ontaining some sub-microscopic element (albeit brief/vague) (13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cidence of sub-microscopic term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reference to vapour – “molecule” (8), “particle” only (4), none (10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reference to solid: “molecule” (3), “particle” only (5), none (12), “atom” (2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55440" indent="0" algn="ctr">
              <a:lnSpc>
                <a:spcPct val="75000"/>
              </a:lnSpc>
              <a:spcAft>
                <a:spcPts val="286"/>
              </a:spcAft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</a:rPr>
              <a:t>Bonding model: 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Vapour – no (10), yes (12) – includes incidence of symbol “I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” (5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– no (20), yes (2) – includes incidence of symbol “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1) – but they possibly changed “I solid particles” to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particles”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clear indication of two components for both vapour and solid (9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cking in solid – regular lattice with touching components (14),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cidence of ideas relating to the type of process involved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0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ublim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erm (11) - without term (5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ation (2) or dissolving (1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23520" indent="-2304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Some form of chemical reaction (5) –ga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agrams for iodine vapou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1295280"/>
            <a:ext cx="479268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lting sodium chloride N = 2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68200" indent="-2682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nding model: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638280" indent="-2358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onic model (4, 2): 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quivocal – due to lack of information (3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38280" indent="-2358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lecular (11) – includes explicit use of word “molecule” (6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38280" indent="-2358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(2) – includes explicit use of word “atom” (2)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68200" indent="-2682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idence of ideas in annotations/labels regarding behaviour of particles and structure of liqu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bsent (13), present (10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68200" indent="-268200">
              <a:lnSpc>
                <a:spcPct val="105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idence of ideas in annotations/labels regarding heat or energy 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bsent (14), present (9) such as idea of particles absorbing/gaining energy (2), heat exciting electrons of sodium chloride (1), implied/explicit idea of involvement of energy in breaking, overcoming bonds (7), implied/explicit idea that much energy is required because bonds are strong (5), use of term ‘lattice energy’ (1), explicit idea of reversible reaction (1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elting sodium chloride pic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1219320"/>
            <a:ext cx="447660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4000" y="1371600"/>
            <a:ext cx="827244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itial questionnaire indicates general confidence in personal SM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teractions in session suggest much hesitant basic chemistry about  dissolving, even from the chemist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n-going questionnaires demonstrate much  faulty basic chemist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e-interview with tutor indicates joint interest in improving basic knowledge and an interest in developing pedagogical techniques e.g. in modelling. Tutor also promoted a metagogniitive-rec0nstructive approach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ost interview with tutor suggests only a moderate level of succes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Ts focus on expected pupil activity raher than their own learn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Interpretation 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7244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DejaVu Sans Condensed"/>
              </a:rPr>
              <a:t>These BTs will teach chemistry in the compulsory 11-16 age range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DejaVu Sans Condensed"/>
              </a:rPr>
              <a:t>Problems in moving between macroscopic, symbolic and particulate levels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333333"/>
                </a:solidFill>
                <a:latin typeface="DejaVu Sans Condensed"/>
              </a:rPr>
              <a:t>Inappropriate chemistry e.g. for iodine dissolving in heptane considering that HI is formed, despite there being no change in colour of the iodine.</a:t>
            </a:r>
            <a:endParaRPr b="0" lang="en-US" sz="3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rpretation I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3333"/>
                </a:solidFill>
                <a:latin typeface="DejaVu Sans Condensed"/>
              </a:rPr>
              <a:t>Sodium chloride indicated prevalence of molecular, not ionic, model</a:t>
            </a:r>
            <a:endParaRPr b="0" lang="en-US" sz="4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3333"/>
                </a:solidFill>
                <a:latin typeface="DejaVu Sans Condensed"/>
              </a:rPr>
              <a:t>The video and presentation uncovered many serious problems of subject knowledge</a:t>
            </a:r>
            <a:endParaRPr b="0" lang="en-US" sz="4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3333"/>
                </a:solidFill>
                <a:latin typeface="DejaVu Sans Condensed"/>
              </a:rPr>
              <a:t>The video and presentation uncovered many serious problems   </a:t>
            </a:r>
            <a:endParaRPr b="0" lang="en-US" sz="4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Knowledge clai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72440" cy="56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Beginning Teachers have many alternative conceptions that are parallel to those of thir pupils or even below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These alternative conceptions are difficult to chang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Pedagogical decisions about choosing appropriate levels of explanation may be impossibl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Prior learning, such as degrees and A levels are not certain indication of sufficient understandi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Implications for teac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72440" cy="56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Passive methods of learning subject knowledge are largely ineffecti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Deep and challenging methods of learning SMK are needed for change (for pupils and for BTs)</a:t>
            </a: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Challenging BTs' personal knowledge has a negative affect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Developing a reflective attitude is not as common as we believ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DejaVu Sans Condensed"/>
              </a:rPr>
              <a:t>Action-orientated goals are not as significant as metacognitve-reconstructive goa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Refer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72440" cy="56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guirre J.M, Haggarty SM and Linder CJ  (1990) Student teachers’ conceptions of science, teaching and learning – a case study in pre-service science education  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International Journal of Science Education 12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(4) 381-390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ess-Newsome J and Lederman N, (1993) Preservice biology teachers’ knowledge structures as a function of professional teacher education: a year long assessment 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Science Education 77,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25-45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ederman NG., Gess-Newsome J and Latz MS (1994) The nature and development of preservice science teachers’ conceptions of subject matter and pedagogy 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ournal of Research in Science Teaching 31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(2) 129 - 146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ederman NG and Latz MS, (1995) Knowledge structures in the preservice science teacher: sources, development, interactions and realationships to teaching </a:t>
            </a: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Journal of Science Teacher Education 6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(1) 1-19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360360"/>
            <a:ext cx="864072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55600"/>
            <a:ext cx="9001080" cy="6224760"/>
          </a:xfrm>
          <a:prstGeom prst="roundRect">
            <a:avLst>
              <a:gd name="adj" fmla="val 2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0000" y="143964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Previous knowledg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search ques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ethodolog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nterpreta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Knowledge claim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mplication for teachin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8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feren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360360"/>
            <a:ext cx="864072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vious knowled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8280360" cy="57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ubject matter knowledg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eas about solutes, solvents and solu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actical work and safe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elling i.e. representing of  sub-microscopic and symbolic level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Pedagogical content knowledg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andard alternative concep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andard experimen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ources available. including practical wor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10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ature of knowledge progression and difficult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11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thods of question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5400" indent="-268200">
              <a:lnSpc>
                <a:spcPct val="83000"/>
              </a:lnSpc>
              <a:spcAft>
                <a:spcPts val="575"/>
              </a:spcAft>
              <a:buSzPct val="100000"/>
              <a:buBlip>
                <a:blip r:embed="rId1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ethods of explain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360360"/>
            <a:ext cx="864072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Research ques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52120"/>
            <a:ext cx="780264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91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What is the nature of the student teachers’ understanding of certain chemistry idea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91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DejaVu Sans Condensed"/>
              </a:rPr>
              <a:t>What is the nature of the student teachers’  views regarding any aspects of the subject that might pose challenges to learners?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6328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DejaVu Sans Condensed"/>
              </a:rPr>
              <a:t>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000" y="1439640"/>
            <a:ext cx="8272440" cy="56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opic of dissolving chosen because it is accessible at different levels, it has been well-studied by researchers, and it is intensely practical and theoretical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wo classes of science beginning teachers, including graduate chemis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erview tutor about learning intentions and learning achievements (AH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e on-going questionnaire with BTs during thee sess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erview selected BTS after sess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9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ollect field notes during the session (AH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aracteristics of chemistry N=3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al aspect (18), including incidence of practical work (14), safety/danger/risk element (7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s (3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e/equations (4), symbols (1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tative/mathematical aspect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hip between submicroscopic and macroscopic levels (3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microscopic level in general and/or for specific submicroscopic areas/topics (9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y in visualizing/involving the unseen (3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croscopic level in relation to chemistry (2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nature (2), other sciences seem more real (1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ngible nature (1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ly pleasing/colourful reactions (4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representations (4), relates to everyday life (5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92680" indent="-292680">
              <a:lnSpc>
                <a:spcPct val="75000"/>
              </a:lnSpc>
              <a:spcAft>
                <a:spcPts val="799"/>
              </a:spcAft>
              <a:buSzPct val="100000"/>
              <a:buBlip>
                <a:blip r:embed="rId1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concepts (3), involves recall (3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tential problematic areas of chemistry I N=3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hematical aspect (12) including balancing equations (6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ed with recall/rote learning/little understanding (8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s relating to practical safety/instruction (7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s with understanding what is happening in reactions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ness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d equations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ssues concerning visualization (5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pecific mention of the term ‘sub-microscopic’ or ‘microscopic’ (2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f scientific terms/language (3) – language includes symbols (1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ssues concerning nature of substances (3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sues relating to modelling (2):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relevant to everyday life (2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Spatial awareness (1)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277200" indent="-27720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1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s of organic chemistry (4), physical chemistry (1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tential problematic areas of chemistry II N=3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mes and topic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tomic structure, particles (14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11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nding (8), mole(2), conservation of matter and/or energy (2), periodic table (1), energy (1), stereo-isomerism (1), equilibrium (Le Chatelier’s Principle) (1), oxidation states (1), nitrogen/carbon cycle (1), energy transfer in reactions (1), electrolysis/rates of reactions (1), chemical processes (1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360000"/>
            <a:ext cx="862020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solving sequence: ideas to be illustrate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8259840" cy="574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3" marL="170820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ion of iodine vapou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tructure and bonding of  solid and vapour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a representation of what you think is happening at the particulate level: a. at the edge of the crystal and b. some way out from the crystal (in the liquid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t of vaporization of heptane/water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lting of sodium chloride v dissolving in water of sodium chlorid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erature change and colour change of ionic solids upon dissolution in water: sodium chloride, anhydrous copper (II) sulphate, anhydrous copper (II) chlor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teractions between ions and water dipole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 algn="ctr">
              <a:lnSpc>
                <a:spcPct val="75000"/>
              </a:lnSpc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ivity of solutions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-304920">
              <a:lnSpc>
                <a:spcPct val="75000"/>
              </a:lnSpc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ivity measurements of copper sulphate and cobalt chloride solu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04920" indent="0">
              <a:lnSpc>
                <a:spcPct val="75000"/>
              </a:lnSpc>
              <a:spcAft>
                <a:spcPts val="575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 Oversby</cp:lastModifiedBy>
  <dcterms:modified xsi:type="dcterms:W3CDTF">2009-08-26T17:33:53Z</dcterms:modified>
  <cp:revision>9</cp:revision>
  <dc:subject/>
  <dc:title>No Slide Title</dc:title>
</cp:coreProperties>
</file>